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255-9CA8-417B-9F61-F2318942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9AD3-B638-45B7-A311-75DEEF82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C7C-3C8C-483E-9B17-D249EBEB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FC8-C90E-49DF-BED8-362E2EE4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C1F8-0F46-4495-957A-F9C5B243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BC31-04CE-4A45-9EB9-66A56C2F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CCCC-F53E-4AD9-9A93-D320D97B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DC18-41E3-4477-BF7E-486E72D4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8D8E-5982-4BFB-B8A4-A09045F1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8675-4C21-4B4C-BD7B-225239F7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C1CE-1362-4743-A8BE-08DC5837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0B90-EC39-4D32-9F55-0CECEE5A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F0C3-0E33-4324-BCAD-FD1F52B9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328E-F66F-44B2-B422-D30F3CB8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D2EC-5FA8-4763-ADE1-B767D868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C677-90DC-4C30-BC6B-A53BF51C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3603-A881-42EF-9084-0FBB8D12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519B-A877-433B-AA41-32E42DD0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95EC-4B74-4C32-B745-E79E2EB6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A795-A7D5-48E8-BECB-5EDA1B90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4C1D-48FC-4086-9F5C-6C98780F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87FF-5B59-4B15-A8AC-80B258B7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BFE1-E832-4191-89FC-477D5988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C3C-1699-4070-8BDF-3B66FCCC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4E2E-77E1-4159-B57C-84ACFEC04CB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3937-8377-491E-B602-A8C36FE661C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67652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第十二章      语 言 艺 术</a:t>
            </a:r>
            <a:r>
              <a:rPr b="1" lang="zh-CN" sz="5400" spc="-1" strike="noStrike">
                <a:solidFill>
                  <a:srgbClr val="ff0033"/>
                </a:solidFill>
                <a:latin typeface="华文新魏"/>
                <a:ea typeface="华文新魏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2514600"/>
            <a:ext cx="556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388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46483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42120" y="793800"/>
            <a:ext cx="1611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、能够深刻细腻地传达思想情感，表现人的丰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的内心世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9960" y="2459160"/>
            <a:ext cx="763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26668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80560" y="2057400"/>
            <a:ext cx="531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“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语言是思想的直接现实”，以语言为材料表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人的情感、心理和思想便具有无比的优越性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61520" y="3124080"/>
            <a:ext cx="295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方面，文学可以通过语言塑造形象，以形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符号传情达意，使那些难以言说或不可言说的情绪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感受获得一种具象化的表现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4648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另一方面，文学可利用语言直接展示思维活动的过程，描写心理状态，传达那些只能用语言才能确切表达的思想情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史铁生《病隙碎笔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0666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生病也是生活体验之一种，甚或算得一项别开生面的游历。……生病的体验是一步步懂得满足。发烧了，才知道不咳嗽的嗓子多么安详。刚坐上轮椅时，我老想，不能直立行走岂非把人的特点搞丢了？便觉天昏地暗。等到又生出褥疮，一连数日只能歪七扭八地躺着，才看见端坐的日子其实多么晴朗。后来又患“尿毒症”，经常昏昏然不能思想，就更加怀恋起往日的时光。终于醒悟：其实每时每刻我们都是幸运的，因为任何灾难的前面都可能再加一个“更”字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380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一、语言在文学活动中的地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18288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从古希腊直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世纪末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世纪初，西方文学界一直认为：语言在文学中主要是表达意义的工具，意义被视为文学中的主导因素，而语言的地位是次要的。即意义决定语言，而不是语言决定意义，先有意义而后有语言，有什么样的意义就要求什么样的语言与之相适应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4956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3e3e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进入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世纪，西方文学界从现代语言观出发，认为语言在文学中主要是创造意义的场所，不再是意义简单地先于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语言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并决定语言，而是意义在语言中被创造出来。</a:t>
            </a:r>
            <a:r>
              <a:rPr b="1" lang="zh-CN" sz="3200" spc="-1" strike="noStrike">
                <a:solidFill>
                  <a:srgbClr val="fe3e3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0666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西方文学界对语言的认识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609480"/>
            <a:ext cx="80769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从索绪尔到维特根斯坦直到当代文学理论，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世纪的“语言学革命”的特征即在于承认，意义不仅是某种以语言“表达”或“反映”的东西；意义其实是被语言创造出来的。我们并不是先有意义或经验，然后再着手为之穿上语词 ；我们能够拥有意义和经验仅仅是因为我们拥有一种语言以容纳经验……想象一种语言就是想象一种完整的社会生活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伊格尔顿《二十世纪西方文学理论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685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1506600"/>
            <a:ext cx="7086600" cy="69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你见过大海                    你想像过大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你想像过                        你见过大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大海                                也许你还喜欢大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你想像过大海                顶多是这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然后见到它                    你见过大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就是这样                        你也想像过大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你见过了大海                你不情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并想像过它                    让海水给淹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可你不是                        就是这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一个水手                        人人都是这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就是这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0"/>
            <a:ext cx="6019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你见过大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韩    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304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中国文学界对语言的认识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9907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国古代语言观：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6765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28120" y="1523880"/>
            <a:ext cx="441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认为语言是外在客观世界之“道”的存在方式。《周易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系辞上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指出：“鼓天下之动者存乎辞”。刘勰《文心雕龙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原道》：“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之所 以能鼓天下者，乃道之文也”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743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②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认为语言是人内在心灵的具体存在方式。西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扬雄《法言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问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神》：“言，心声也”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97280" y="38862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中国现代语言观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343400"/>
            <a:ext cx="151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五四新文化运动中主流立场认为，语言在文学中具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一种重要的或根本的地位，是体现文学现代性的关键环节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181480"/>
            <a:ext cx="1057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世纪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年以来的半个多世纪中，语言未得到充分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重视，工具论较为盛行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年代以后，人们开始将语言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为文学的“第一”地位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68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6200" y="40644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0600" y="1981080"/>
            <a:ext cx="9023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文学是语言的艺术，语言在文学中是作为一种“直接现实”而存在的东西，它构成了文学的客观和基本的存在方式。简言之，语言是文学的直接现实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304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二、语言艺术的特点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11800" y="83808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形象的间接性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295280"/>
            <a:ext cx="74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其他艺术的形象可以直接作用于人的感官，通过视觉、听觉和触觉可以直接感受到，具有直观性的特点，而文学形象人们不能直接感觉到，它以语言为中介，诉诸人的想象和联想，在人脑中构建起文学形象，即意中之象，具有间接性的特点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32004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局限性：不懂得语言，无法独立欣赏文学作品；文学素养不高，想象力贫乏的人很难领会文学形象的生动美妙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8560" y="436392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优越性：形象的间接性给读者的想象留下了广阔的心理空间，读者可以根据自己的生活经验和感受去丰富补充形象，进行艺术再创造，以获得莫大的精神享受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2133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宋玉《登徒子好色赋》：“增之一分则太长，减之一分则太短，著粉则太白，施朱则太赤。嫣然一笑，迷阳城，惑下蔡，一顾倾人城，再顾倾人国”。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10666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、易于表现广阔的社会生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2209680"/>
            <a:ext cx="7467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语言与其他艺术所使用的材料（色彩、线条、音响、体积等）相比，最为自由和灵活，受限制最小，它能直接表现任何生活现象，世间的事物和想象中东西，均可用语言加以表达。因此，文学在表现社会生活时几乎不受时间和空间的限制，具有广阔的自由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09:13:15Z</dcterms:created>
  <dc:creator>USER</dc:creator>
  <dc:description/>
  <dc:language>en-US</dc:language>
  <cp:lastModifiedBy>ICBC</cp:lastModifiedBy>
  <dcterms:modified xsi:type="dcterms:W3CDTF">2007-11-28T15:17:04Z</dcterms:modified>
  <cp:revision>54</cp:revision>
  <dc:subject/>
  <dc:title>PowerPoint 演示文稿</dc:title>
</cp:coreProperties>
</file>