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C79-1D4A-4A84-9CD6-566E4BB9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060-AAC0-437D-AA6A-07BBCF5B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D76-83E5-4703-B3F5-9B6F00BC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45E-5324-41F0-B6B2-EDE9D7EE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5038-0F20-44B1-908D-B4B7799E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36C3-721C-4FE3-B293-23668512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942A-7D89-4A05-AA3C-AEABF540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A9D8-8247-4E3F-AD1F-BC0DB97C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BA7C-7EFC-42BE-9E04-65393E94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85A1-6D6D-49EB-8903-494C5A9B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4A3E-682E-4AE5-8C21-24E14ACA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7C7-EE34-46E8-BDD9-A2FA2A8D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AE9C-FBE5-4CF3-B20C-427CEA37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BCB2-8843-40D9-B29B-F6EAF00D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7291-4B73-4B70-81CB-A1525188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1ED7-A2E5-4E52-959A-BFFD2BA4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19EF-B891-44C4-9667-196DCA67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E13-1BBF-45A3-B020-3249A512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E44-97CC-4033-8B02-7BF7C372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AD1-2532-4867-B496-31D4C5E5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987-A2EA-4B11-8105-15D6546B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1031-3A73-435F-85F7-142A97B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AB2-9844-4D2B-9999-61083A8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DB5-D948-4C8A-975E-973500A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2774-1A09-4A5B-8BDB-57DE927AA01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27AA-A93C-48D6-958A-A1686A40AA9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第三章 艺术活动的功能与艺术教育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第一节   艺术活动的社会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第二节   艺术教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800" spc="-1" strike="noStrike">
              <a:solidFill>
                <a:srgbClr val="676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艺术的所有功能都联结于审美价值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审美价值使得艺术的各种功能形成统一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艺术的作用和功能是一个有机的整体，具有不可分割的联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诗：可以兴，可以观、可以群、可以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抒情文学与经学的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文以明道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：曹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以贯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韩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道沿圣以垂文，圣因文而明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刘勰《文心雕龙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文以载道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敦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戏剧的作用：教化说，抒情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笑话：用笑的方式来消除话语的束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本山传媒二人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郭德纲的相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周立波的上海清口，一周立波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第二节   艺术教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美育与艺术教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艺术教育的意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艺术教育的任务和目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美育与艺术教育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育作为一种教育方式，其使命是通过审美手段去塑造理想的完整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美主义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蔡元培：“以美育代宗教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</a:t>
            </a: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2.</a:t>
            </a: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艺术教育意义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艺术教育承担着开启人的感知力、理解力、想象力、创造力，使人的内心情感和谐发展的重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心灵的和谐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狭义的艺术教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培养专业艺术人才所进行的各种艺术理论和艺术实践的教育。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广义的艺术教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美育为中心，强调普及艺术的基本知识和基本原理，通过对优秀艺术作品的欣赏和评价，来健全人的审美心理结构，提高人们的艺术修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3.</a:t>
            </a: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艺术教育的任务和目标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普及艺术的</a:t>
            </a:r>
            <a:r>
              <a:rPr b="1" lang="zh-CN" sz="3200" spc="-1" strike="noStrike">
                <a:solidFill>
                  <a:srgbClr val="e933ff"/>
                </a:solidFill>
                <a:latin typeface="Arial"/>
              </a:rPr>
              <a:t>基本知识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，提高人的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艺术修养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健全</a:t>
            </a:r>
            <a:r>
              <a:rPr b="1" lang="zh-CN" sz="3200" spc="-1" strike="noStrike">
                <a:solidFill>
                  <a:srgbClr val="e933ff"/>
                </a:solidFill>
                <a:latin typeface="Arial"/>
              </a:rPr>
              <a:t>审美心理结构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，充分发挥人的想象力和创造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陶冶人的情感，培养</a:t>
            </a:r>
            <a:r>
              <a:rPr b="1" lang="zh-CN" sz="3200" spc="-1" strike="noStrike">
                <a:solidFill>
                  <a:srgbClr val="e933ff"/>
                </a:solidFill>
                <a:latin typeface="Arial"/>
              </a:rPr>
              <a:t>完美的人格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艺术教育根本目标是培养</a:t>
            </a:r>
            <a:r>
              <a:rPr b="1" lang="zh-CN" sz="3200" spc="-1" strike="noStrike">
                <a:solidFill>
                  <a:srgbClr val="e933ff"/>
                </a:solidFill>
                <a:latin typeface="Arial"/>
              </a:rPr>
              <a:t>全面发展的人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4</a:t>
            </a: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、艺术教育的层面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楷体_GB2312"/>
              </a:rPr>
              <a:t>审美</a:t>
            </a:r>
            <a:r>
              <a:rPr b="1" lang="zh-CN" sz="3200" spc="-1" strike="noStrike">
                <a:solidFill>
                  <a:srgbClr val="e933ff"/>
                </a:solidFill>
                <a:latin typeface="楷体_GB2312"/>
              </a:rPr>
              <a:t>能力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</a:rPr>
              <a:t>的培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楷体_GB2312"/>
              </a:rPr>
              <a:t>审美</a:t>
            </a:r>
            <a:r>
              <a:rPr b="1" lang="zh-CN" sz="3200" spc="-1" strike="noStrike">
                <a:solidFill>
                  <a:srgbClr val="e933ff"/>
                </a:solidFill>
                <a:latin typeface="楷体_GB2312"/>
              </a:rPr>
              <a:t>理想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</a:rPr>
              <a:t>的建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创造性</a:t>
            </a:r>
            <a:r>
              <a:rPr b="1" lang="zh-CN" sz="3200" spc="-1" strike="noStrike">
                <a:solidFill>
                  <a:srgbClr val="e933ff"/>
                </a:solidFill>
                <a:latin typeface="楷体_GB2312"/>
              </a:rPr>
              <a:t>智力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</a:rPr>
              <a:t>的开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楷体_GB2312"/>
              </a:rPr>
              <a:t>健康</a:t>
            </a:r>
            <a:r>
              <a:rPr b="1" lang="zh-CN" sz="3200" spc="-1" strike="noStrike">
                <a:solidFill>
                  <a:srgbClr val="e933ff"/>
                </a:solidFill>
                <a:latin typeface="楷体_GB2312"/>
              </a:rPr>
              <a:t>人格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</a:rPr>
              <a:t>的塑造——真、善、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礁石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艾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和它的身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象刀砍过一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它依然站在那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含着微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看着海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第一节 艺术活动的社会功能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审美认知作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审美教育作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审美娱乐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  </a:t>
            </a: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1.</a:t>
            </a: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审美认知作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使人认识到客观事物的具体形状和色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使人认识到一个时代、一个民族、一个人的思想情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使人认识到对客观世界的感知方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95720" y="1523880"/>
            <a:ext cx="20574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《雨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蒸汽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速度》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629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艺术的认识作用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全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近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间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5a343"/>
                </a:solidFill>
                <a:latin typeface="Arial"/>
              </a:rPr>
              <a:t>论语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多识于鸟兽草木之名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14680" y="1155600"/>
            <a:ext cx="57150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914400"/>
            <a:ext cx="4457520" cy="4952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86240" y="1066320"/>
            <a:ext cx="167652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维米尔《倒牛奶的女仆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2.</a:t>
            </a:r>
            <a:r>
              <a:rPr b="1" lang="zh-CN" sz="3800" spc="-1" strike="noStrike">
                <a:solidFill>
                  <a:srgbClr val="6767ff"/>
                </a:solidFill>
                <a:latin typeface="Arial"/>
              </a:rPr>
              <a:t>审美教育作用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以情感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潜移默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寓教于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3.</a:t>
            </a:r>
            <a:r>
              <a:rPr b="1" lang="zh-CN" sz="3400" spc="-1" strike="noStrike">
                <a:solidFill>
                  <a:srgbClr val="6767ff"/>
                </a:solidFill>
                <a:latin typeface="Arial"/>
              </a:rPr>
              <a:t>审美娱乐作用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审美愉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心理快感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0-11-04T14:14:30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