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wmf" ContentType="image/x-wmf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A6EC-6C64-461A-90B1-E90DAC3E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2C2-5E70-4345-A527-E6A58F7F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DAA-277B-4ED3-9D4B-F46C8C9B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5B21-A905-4170-86B0-6A9E4D99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1BF8-507C-4538-8908-8852405A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D2FE-E9C9-449B-80E0-4BC1BA2F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9460-E31A-487F-B28B-8DC62D2B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CE70-4DB4-41ED-8F0B-D3A7A862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7CB7-4409-401F-BE75-1190754B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EDF8-1456-48EA-8603-43BFC7AF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D120-4EE5-4C08-87E7-DC209815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6AAA-1AB6-4821-8276-15B181DD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9578-8510-477A-BAA7-3932EF75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1AC9-713C-45F2-9DED-37B48E9D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1CF8-1B68-4314-AB0A-C5E85195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C825-239C-4693-95A5-68CBDE40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6FEA-B170-4B2E-B331-F2F932A8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6B1-7F50-4CA5-90E4-3DB21073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A522-E4CC-44F2-B4D1-13FA4380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01E-7526-41A7-A71D-C8ACAE1A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06D-BAC1-43B4-A434-D49E0502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F72-1FFC-4304-8212-BD743176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397-15EE-442C-99C3-08A92950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5DC0-D7A4-4E24-B03C-3A6907E1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d4d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3D4C-2821-4CE2-89AE-6E5951BC16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480"/>
              <a:chOff x="293760" y="2546280"/>
              <a:chExt cx="712440" cy="47448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480"/>
              <a:chOff x="417600" y="2968560"/>
              <a:chExt cx="739800" cy="47448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680" y="2968560"/>
                <a:ext cx="36972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EB79-51DD-4F20-BEFB-0ACDCDC806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aike.baidu.com/image/86d5bac2d960cb5b0ef4779b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28" descr="卡片0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29" descr="BS00554_"/>
          <p:cNvPicPr/>
          <p:nvPr/>
        </p:nvPicPr>
        <p:blipFill>
          <a:blip r:embed="rId2"/>
          <a:stretch/>
        </p:blipFill>
        <p:spPr>
          <a:xfrm>
            <a:off x="3809880" y="3581280"/>
            <a:ext cx="2749680" cy="2667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30"/>
          <p:cNvSpPr/>
          <p:nvPr/>
        </p:nvSpPr>
        <p:spPr>
          <a:xfrm>
            <a:off x="1357200" y="2071800"/>
            <a:ext cx="74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艺术概论导修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http://www.365qy.com/attachments/2008/04/1_200804160329251isQQ.jpg"/>
          <p:cNvPicPr/>
          <p:nvPr/>
        </p:nvPicPr>
        <p:blipFill>
          <a:blip r:embed="rId1"/>
          <a:stretch/>
        </p:blipFill>
        <p:spPr>
          <a:xfrm>
            <a:off x="0" y="0"/>
            <a:ext cx="4033800" cy="5805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51BcWIrfOyL"/>
          <p:cNvPicPr/>
          <p:nvPr/>
        </p:nvPicPr>
        <p:blipFill>
          <a:blip r:embed="rId2"/>
          <a:stretch/>
        </p:blipFill>
        <p:spPr>
          <a:xfrm>
            <a:off x="3924360" y="2852640"/>
            <a:ext cx="5219640" cy="4005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15_1020_e3bf1328e30b60b"/>
          <p:cNvPicPr/>
          <p:nvPr/>
        </p:nvPicPr>
        <p:blipFill>
          <a:blip r:embed="rId3"/>
          <a:stretch/>
        </p:blipFill>
        <p:spPr>
          <a:xfrm>
            <a:off x="3905280" y="0"/>
            <a:ext cx="52387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ahoma"/>
              </a:rPr>
              <a:t>艺术的阴谋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透视一种“当代艺术国际”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河清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波普艺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装置艺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行为艺术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偶发艺术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ppening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极简艺术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alism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大地艺术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dar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概念艺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494860e3g8428b8c4b23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013000000469691204911656798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pics_yoyoayu_1239938023"/>
          <p:cNvPicPr/>
          <p:nvPr/>
        </p:nvPicPr>
        <p:blipFill>
          <a:blip r:embed="rId1"/>
          <a:stretch/>
        </p:blipFill>
        <p:spPr>
          <a:xfrm>
            <a:off x="0" y="0"/>
            <a:ext cx="770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090827120722e5587ed223e5c1"/>
          <p:cNvPicPr/>
          <p:nvPr/>
        </p:nvPicPr>
        <p:blipFill>
          <a:blip r:embed="rId1"/>
          <a:stretch/>
        </p:blipFill>
        <p:spPr>
          <a:xfrm>
            <a:off x="0" y="0"/>
            <a:ext cx="766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4" descr="3200250320100013_7"/>
          <p:cNvPicPr/>
          <p:nvPr/>
        </p:nvPicPr>
        <p:blipFill>
          <a:blip r:embed="rId1"/>
          <a:stretch/>
        </p:blipFill>
        <p:spPr>
          <a:xfrm>
            <a:off x="0" y="0"/>
            <a:ext cx="4356000" cy="5805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101620_1452178544"/>
          <p:cNvPicPr/>
          <p:nvPr/>
        </p:nvPicPr>
        <p:blipFill>
          <a:blip r:embed="rId2"/>
          <a:stretch/>
        </p:blipFill>
        <p:spPr>
          <a:xfrm>
            <a:off x="4356000" y="620640"/>
            <a:ext cx="43563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4" descr="0405282118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d9f50b465ed2413d6a63e5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二、艺术的本质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形式：美、创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内容：自我存在的确证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4200" y="9288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80"/>
                </a:solidFill>
                <a:latin typeface="Tahoma"/>
                <a:ea typeface="楷体_GB2312"/>
              </a:rPr>
              <a:t>一、何为艺术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ahoma"/>
              </a:rPr>
              <a:t>经典作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ahoma"/>
                <a:ea typeface="楷体_GB2312"/>
              </a:rPr>
              <a:t>艺术就是克服困难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ahoma"/>
                <a:ea typeface="楷体_GB2312"/>
              </a:rPr>
              <a:t>杨绛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ahoma"/>
              </a:rPr>
              <a:t>小品文一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ahoma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请以理性眼光理解这篇文章，这里面内含了艺术的哪些特质？你认为哪一种最为本质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ahoma"/>
              </a:rPr>
              <a:t>三、艺术活动流程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559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世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鉴赏者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艺术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品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4"/>
          <p:cNvSpPr/>
          <p:nvPr/>
        </p:nvSpPr>
        <p:spPr>
          <a:xfrm flipV="1">
            <a:off x="2627280" y="2565360"/>
            <a:ext cx="83808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5"/>
          <p:cNvSpPr/>
          <p:nvPr/>
        </p:nvSpPr>
        <p:spPr>
          <a:xfrm flipV="1">
            <a:off x="2743200" y="2971800"/>
            <a:ext cx="762120" cy="99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4267080" y="2971800"/>
            <a:ext cx="914400" cy="990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7"/>
          <p:cNvSpPr/>
          <p:nvPr/>
        </p:nvSpPr>
        <p:spPr>
          <a:xfrm flipH="1" flipV="1">
            <a:off x="4114800" y="3048120"/>
            <a:ext cx="83808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9"/>
          <p:cNvSpPr/>
          <p:nvPr/>
        </p:nvSpPr>
        <p:spPr>
          <a:xfrm flipH="1">
            <a:off x="4357800" y="4500720"/>
            <a:ext cx="761760" cy="1066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10"/>
          <p:cNvSpPr/>
          <p:nvPr/>
        </p:nvSpPr>
        <p:spPr>
          <a:xfrm flipV="1">
            <a:off x="4357800" y="4429080"/>
            <a:ext cx="685800" cy="914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11"/>
          <p:cNvSpPr/>
          <p:nvPr/>
        </p:nvSpPr>
        <p:spPr>
          <a:xfrm flipH="1" flipV="1">
            <a:off x="4143240" y="3000240"/>
            <a:ext cx="914400" cy="990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12"/>
          <p:cNvSpPr/>
          <p:nvPr/>
        </p:nvSpPr>
        <p:spPr>
          <a:xfrm flipV="1">
            <a:off x="2895480" y="3048120"/>
            <a:ext cx="685800" cy="914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13"/>
          <p:cNvSpPr/>
          <p:nvPr/>
        </p:nvSpPr>
        <p:spPr>
          <a:xfrm flipH="1">
            <a:off x="2742840" y="2971800"/>
            <a:ext cx="762120" cy="990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4"/>
          <p:cNvSpPr/>
          <p:nvPr/>
        </p:nvSpPr>
        <p:spPr>
          <a:xfrm flipH="1" flipV="1">
            <a:off x="2819160" y="4419360"/>
            <a:ext cx="609480" cy="1143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2971800" y="4419720"/>
            <a:ext cx="609480" cy="1143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ahoma"/>
                <a:ea typeface="楷体_GB2312"/>
              </a:rPr>
              <a:t>四、 艺术理论的主要内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艺术本质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系统全面阐释艺术活动的基本规律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艺术创作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：了解艺术活动系统各个环节之间的本质联系，以及艺术创作活动的规律与特点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作品构成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：研究艺术作品的体裁、内容与形式的关系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艺术接受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： 指导人们遵循审美规律和艺术规律对艺术品进行能动的创造、接受和批评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说什么？怎么说？怎么去怎么说？说清楚了没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ahoma"/>
                <a:ea typeface="楷体_GB2312"/>
              </a:rPr>
              <a:t>五、</a:t>
            </a:r>
            <a:r>
              <a:rPr b="1" lang="zh-CN" sz="3600" spc="-1" strike="noStrike">
                <a:solidFill>
                  <a:srgbClr val="ffc000"/>
                </a:solidFill>
                <a:latin typeface="Tahoma"/>
                <a:ea typeface="楷体_GB2312"/>
              </a:rPr>
              <a:t>艺术概论在专业中的位置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ahoma"/>
                <a:ea typeface="楷体_GB2312"/>
              </a:rPr>
              <a:t>艺术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ahoma"/>
                <a:ea typeface="楷体_GB2312"/>
              </a:rPr>
              <a:t>艺术理论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ahoma"/>
                <a:ea typeface="楷体_GB2312"/>
              </a:rPr>
              <a:t>艺术实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如果说我比别人看得远一些，那是因为我站在巨人们的肩膀上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——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ahoma"/>
                <a:ea typeface="楷体_GB2312"/>
              </a:rPr>
              <a:t>六、</a:t>
            </a:r>
            <a:r>
              <a:rPr b="1" lang="zh-CN" sz="3600" spc="-1" strike="noStrike">
                <a:solidFill>
                  <a:srgbClr val="ffc000"/>
                </a:solidFill>
                <a:latin typeface="Tahoma"/>
                <a:ea typeface="楷体_GB2312"/>
              </a:rPr>
              <a:t>学习目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7172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学生能力培养要求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了解各门艺术的基本特点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掌握艺术的基本规律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能评析艺术作品和艺术现象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学生素质要求：提升艺术涵养和修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ahoma"/>
                <a:ea typeface="楷体_GB2312"/>
              </a:rPr>
              <a:t>七、</a:t>
            </a:r>
            <a:r>
              <a:rPr b="0" lang="zh-CN" sz="3600" spc="-1" strike="noStrike">
                <a:solidFill>
                  <a:srgbClr val="ffc000"/>
                </a:solidFill>
                <a:latin typeface="Times New Roman"/>
              </a:rPr>
              <a:t>选用教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7120" y="2214720"/>
            <a:ext cx="8786880" cy="385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王宏建主编：艺术概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]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京：文化艺术出版社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彭吉象：艺术学概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M]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北京：北京大学出版社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李胜利编著：艺术概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]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京：北京广播学院出版社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0492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海天编著：艺术概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]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：上海人民美术出版社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04920">
              <a:spcBef>
                <a:spcPts val="601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周宪：美学是什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M]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北京：北京大学出版社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04920">
              <a:spcBef>
                <a:spcPts val="601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杨辛、甘霖著：美学原理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M]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北京：北京大学出版社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04920">
              <a:spcBef>
                <a:spcPts val="601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刘叔成等：美学基本原理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M]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上海：上海人民出版社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04920">
              <a:spcBef>
                <a:spcPts val="601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周贻白：中国戏剧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M]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北京：戏剧出版社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6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04920">
              <a:spcBef>
                <a:spcPts val="601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陈洛加：外国美术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M]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重庆：西南师范大学出版社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ahoma"/>
                <a:ea typeface="楷体_GB2312"/>
              </a:rPr>
              <a:t>八、课程设置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本课程计划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周，每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学时，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学时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ahoma"/>
                <a:ea typeface="楷体_GB2312"/>
              </a:rPr>
              <a:t>九、考查方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三次旷课取消考试资格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平时成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分，三次作业，各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期末成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，卷面成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ahoma"/>
                <a:ea typeface="楷体_GB2312"/>
              </a:rPr>
              <a:t>十、方法创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把艺术放到文化中来讲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师也者，所以传道授业解惑也。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、让学生积极参与到教学中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、现象目标是大家不睡觉、不旷课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、最终目标是提升大家的艺术理论素养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29" descr="200532415341738620"/>
          <p:cNvPicPr/>
          <p:nvPr/>
        </p:nvPicPr>
        <p:blipFill>
          <a:blip r:embed="rId1"/>
          <a:stretch/>
        </p:blipFill>
        <p:spPr>
          <a:xfrm>
            <a:off x="0" y="0"/>
            <a:ext cx="4140360" cy="5734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7a1aa81372a8ec2cb8127b79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ahoma"/>
              </a:rPr>
              <a:t>现代的</a:t>
            </a:r>
            <a:r>
              <a:rPr b="0" lang="zh-CN" sz="32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808080"/>
                </a:solidFill>
                <a:latin typeface="Tahoma"/>
              </a:rPr>
              <a:t>颠覆经典</a:t>
            </a:r>
            <a:r>
              <a:rPr b="0" lang="zh-CN" sz="3200" spc="-1" strike="noStrike">
                <a:solidFill>
                  <a:srgbClr val="80808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3" descr="F:\TDDOWNLOAD\2185329.jpeg"/>
          <p:cNvPicPr/>
          <p:nvPr/>
        </p:nvPicPr>
        <p:blipFill>
          <a:blip r:embed="rId1"/>
          <a:stretch/>
        </p:blipFill>
        <p:spPr>
          <a:xfrm>
            <a:off x="3924360" y="549360"/>
            <a:ext cx="5219640" cy="6308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yt232526537_P2"/>
          <p:cNvPicPr/>
          <p:nvPr/>
        </p:nvPicPr>
        <p:blipFill>
          <a:blip r:embed="rId2"/>
          <a:stretch/>
        </p:blipFill>
        <p:spPr>
          <a:xfrm>
            <a:off x="0" y="0"/>
            <a:ext cx="39387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http://imgsrc.baidu.com/baike/pic/item/5beeba0f789251f4ab6457a7.jpg"/>
          <p:cNvPicPr/>
          <p:nvPr/>
        </p:nvPicPr>
        <p:blipFill>
          <a:blip r:embed="rId1"/>
          <a:stretch/>
        </p:blipFill>
        <p:spPr>
          <a:xfrm>
            <a:off x="0" y="0"/>
            <a:ext cx="5651640" cy="5391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forum6_f_682_1152317428"/>
          <p:cNvPicPr/>
          <p:nvPr/>
        </p:nvPicPr>
        <p:blipFill>
          <a:blip r:embed="rId2"/>
          <a:stretch/>
        </p:blipFill>
        <p:spPr>
          <a:xfrm>
            <a:off x="5651640" y="0"/>
            <a:ext cx="349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xin_050704090537765375734"/>
          <p:cNvPicPr/>
          <p:nvPr/>
        </p:nvPicPr>
        <p:blipFill>
          <a:blip r:embed="rId1"/>
          <a:stretch/>
        </p:blipFill>
        <p:spPr>
          <a:xfrm>
            <a:off x="0" y="0"/>
            <a:ext cx="4983120" cy="6093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2007122417132816"/>
          <p:cNvPicPr/>
          <p:nvPr/>
        </p:nvPicPr>
        <p:blipFill>
          <a:blip r:embed="rId2"/>
          <a:stretch/>
        </p:blipFill>
        <p:spPr>
          <a:xfrm>
            <a:off x="5076720" y="1628640"/>
            <a:ext cx="40672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054" descr="http://hiphotos.baidu.com/jojochen118/pic/item/e1c9ab03a91fe8314afb514d.jpg"/>
          <p:cNvPicPr/>
          <p:nvPr/>
        </p:nvPicPr>
        <p:blipFill>
          <a:blip r:embed="rId1"/>
          <a:stretch/>
        </p:blipFill>
        <p:spPr>
          <a:xfrm>
            <a:off x="0" y="0"/>
            <a:ext cx="5003640" cy="5300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1-4"/>
          <p:cNvPicPr/>
          <p:nvPr/>
        </p:nvPicPr>
        <p:blipFill>
          <a:blip r:embed="rId2"/>
          <a:stretch/>
        </p:blipFill>
        <p:spPr>
          <a:xfrm>
            <a:off x="4857840" y="1989000"/>
            <a:ext cx="42861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2" descr="http://img.post.mop.com/picture/200508/17/26/52526/200508171022023837.jpg"/>
          <p:cNvPicPr/>
          <p:nvPr/>
        </p:nvPicPr>
        <p:blipFill>
          <a:blip r:embed="rId1"/>
          <a:stretch/>
        </p:blipFill>
        <p:spPr>
          <a:xfrm>
            <a:off x="0" y="0"/>
            <a:ext cx="4932360" cy="5929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2fbe950182582501038c2fc"/>
          <p:cNvPicPr/>
          <p:nvPr/>
        </p:nvPicPr>
        <p:blipFill>
          <a:blip r:embed="rId2"/>
          <a:stretch/>
        </p:blipFill>
        <p:spPr>
          <a:xfrm>
            <a:off x="5867280" y="3068640"/>
            <a:ext cx="3276720" cy="3789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1242331260-embed-18974"/>
          <p:cNvPicPr/>
          <p:nvPr/>
        </p:nvPicPr>
        <p:blipFill>
          <a:blip r:embed="rId3"/>
          <a:stretch/>
        </p:blipFill>
        <p:spPr>
          <a:xfrm>
            <a:off x="5003640" y="0"/>
            <a:ext cx="41403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30" descr="http://imgsrc.baidu.com/baike/abpic/item/86d5bac2d960cb5b0ef4779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003640" cy="5589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fc70f25d6b9cde32867ad1c14b85d98d"/>
          <p:cNvPicPr/>
          <p:nvPr/>
        </p:nvPicPr>
        <p:blipFill>
          <a:blip r:embed="rId3"/>
          <a:stretch/>
        </p:blipFill>
        <p:spPr>
          <a:xfrm>
            <a:off x="5076720" y="0"/>
            <a:ext cx="4067280" cy="299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W020070214550994672112"/>
          <p:cNvPicPr/>
          <p:nvPr/>
        </p:nvPicPr>
        <p:blipFill>
          <a:blip r:embed="rId4"/>
          <a:stretch/>
        </p:blipFill>
        <p:spPr>
          <a:xfrm>
            <a:off x="5759280" y="2997360"/>
            <a:ext cx="33847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07:51:41Z</dcterms:created>
  <dc:creator>Administrator</dc:creator>
  <dc:description/>
  <cp:keywords/>
  <dc:language>en-US</dc:language>
  <cp:lastModifiedBy>李欣鑫</cp:lastModifiedBy>
  <dcterms:modified xsi:type="dcterms:W3CDTF">2015-06-17T08:41:42Z</dcterms:modified>
  <cp:revision>110</cp:revision>
  <dc:subject/>
  <dc:title>一、艺术是什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40</vt:lpwstr>
  </property>
</Properties>
</file>